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67E-6227-4707-8474-B24C0FEC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9B7-4F94-49E3-9F3F-0E50E733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664-BAB4-4796-AE0A-66D1426E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85C-8433-467C-BEA0-4AB3A313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50C-6F6E-4B19-9F58-49BADEFD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B30-3692-4613-AAA5-6F9421D8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64A-C656-4159-B5A2-922F5A0F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BAD-37F6-4FEF-86AA-49015A2D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6D6-5326-43A1-A6A7-C303F753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5D8-9014-40E6-9C6A-27540301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570-8D97-44E8-8620-3122883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149-A3CD-4176-BEE2-253E65E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2878-D475-4A04-962C-FCFC3741D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35640" y="1838160"/>
            <a:ext cx="8751240" cy="4436280"/>
            <a:chOff x="35640" y="1838160"/>
            <a:chExt cx="8751240" cy="4436280"/>
          </a:xfrm>
        </p:grpSpPr>
        <p:sp>
          <p:nvSpPr>
            <p:cNvPr id="1124" name=""/>
            <p:cNvSpPr/>
            <p:nvPr/>
          </p:nvSpPr>
          <p:spPr>
            <a:xfrm>
              <a:off x="2051280" y="183816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5640" y="1893600"/>
              <a:ext cx="8751240" cy="4380840"/>
              <a:chOff x="35640" y="1893600"/>
              <a:chExt cx="8751240" cy="4380840"/>
            </a:xfrm>
          </p:grpSpPr>
          <p:sp>
            <p:nvSpPr>
              <p:cNvPr id="1126" name=""/>
              <p:cNvSpPr/>
              <p:nvPr/>
            </p:nvSpPr>
            <p:spPr>
              <a:xfrm>
                <a:off x="35640" y="3146400"/>
                <a:ext cx="1698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max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(T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125</a:t>
                </a:r>
                <a:r>
                  <a:rPr b="0" lang="pl-PL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35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1080360" y="1893600"/>
                <a:ext cx="7706520" cy="4380840"/>
                <a:chOff x="1080360" y="1893600"/>
                <a:chExt cx="7706520" cy="438084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1828800" y="1969200"/>
                  <a:ext cx="0" cy="358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600200" y="5322600"/>
                  <a:ext cx="632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858720" y="4754160"/>
                  <a:ext cx="105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[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828800" y="2579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38480" y="2579400"/>
                  <a:ext cx="274320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808440" y="5474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200640" y="5398560"/>
                  <a:ext cx="1095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(=T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max</a:t>
                  </a: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5105520" y="3645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828800" y="36460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038480" y="2579400"/>
                  <a:ext cx="0" cy="281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80360" y="2139480"/>
                  <a:ext cx="75528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79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39" name=""/>
                    <p:cNvSpPr txBox="1"/>
                    <p:nvPr/>
                  </p:nvSpPr>
                  <p:spPr>
                    <a:xfrm>
                      <a:off x="5442120" y="1893600"/>
                      <a:ext cx="254772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ΔT</m:t>
                              </m:r>
                            </m:num>
                            <m:den>
                              <m:r>
                                <m:t xml:space="preserve">ΔP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,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0" name=""/>
                <p:cNvSpPr/>
                <p:nvPr/>
              </p:nvSpPr>
              <p:spPr>
                <a:xfrm flipH="1">
                  <a:off x="4495680" y="2350800"/>
                  <a:ext cx="914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1" name=""/>
                    <p:cNvSpPr txBox="1"/>
                    <p:nvPr/>
                  </p:nvSpPr>
                  <p:spPr>
                    <a:xfrm>
                      <a:off x="5378400" y="3092040"/>
                      <a:ext cx="3408480" cy="668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ax</m:t>
                              </m:r>
                            </m:sub>
                          </m:sSub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-12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2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rPr>
                              <m:lit/>
                              <m:nor/>
                            </m:rPr>
                            <m:t xml:space="preserve">35W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2" name=""/>
                <p:cNvSpPr/>
                <p:nvPr/>
              </p:nvSpPr>
              <p:spPr>
                <a:xfrm>
                  <a:off x="4873680" y="5490720"/>
                  <a:ext cx="637920" cy="45972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zależność mocy strat operacyjnego wzmacniacza mocy OPA501od temperatury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"/>
          <p:cNvGraphicFramePr/>
          <p:nvPr/>
        </p:nvGraphicFramePr>
        <p:xfrm>
          <a:off x="314280" y="447840"/>
          <a:ext cx="490716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447840"/>
                    <a:ext cx="49071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"/>
          <p:cNvSpPr/>
          <p:nvPr/>
        </p:nvSpPr>
        <p:spPr>
          <a:xfrm>
            <a:off x="108180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del elektrotermiczny wzmacniacza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7" name=""/>
          <p:cNvGraphicFramePr/>
          <p:nvPr/>
        </p:nvGraphicFramePr>
        <p:xfrm>
          <a:off x="1631880" y="2303640"/>
          <a:ext cx="7267680" cy="39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2303640"/>
                    <a:ext cx="726768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9" name=""/>
          <p:cNvSpPr/>
          <p:nvPr/>
        </p:nvSpPr>
        <p:spPr>
          <a:xfrm>
            <a:off x="1721520" y="621972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biegi temperatur (=napięć) w modelu elektrotermicznym OPA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52120" y="907920"/>
            <a:ext cx="140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1=1,03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2=5,0u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1=79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2=140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5360" y="2289240"/>
            <a:ext cx="12081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57280" y="1951200"/>
            <a:ext cx="123840" cy="2635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71840" y="1144440"/>
            <a:ext cx="153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hj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2K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158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165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170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1182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361800" y="4784760"/>
                <a:ext cx="38754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(idealizow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361800" y="394344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 flipV="1">
            <a:off x="2147760" y="1390320"/>
            <a:ext cx="1800" cy="888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569960" y="2457360"/>
            <a:ext cx="534960" cy="532080"/>
            <a:chOff x="1569960" y="2457360"/>
            <a:chExt cx="534960" cy="532080"/>
          </a:xfrm>
        </p:grpSpPr>
        <p:sp>
          <p:nvSpPr>
            <p:cNvPr id="1258" name=""/>
            <p:cNvSpPr/>
            <p:nvPr/>
          </p:nvSpPr>
          <p:spPr>
            <a:xfrm>
              <a:off x="1569960" y="2457360"/>
              <a:ext cx="534960" cy="53208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1770120" y="2588760"/>
              <a:ext cx="1440" cy="266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1770120" y="2479320"/>
              <a:ext cx="173160" cy="176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770120" y="2789280"/>
              <a:ext cx="17784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69960" y="2722680"/>
              <a:ext cx="200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1903320" y="2855520"/>
              <a:ext cx="1800" cy="66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836360" y="2922480"/>
              <a:ext cx="666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 flipV="1">
            <a:off x="1969920" y="227952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69920" y="299088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147760" y="3168720"/>
            <a:ext cx="1800" cy="355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058840" y="1568520"/>
            <a:ext cx="177840" cy="3571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25400" y="176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902880" y="1905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903240" y="2724120"/>
            <a:ext cx="711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47760" y="3346560"/>
            <a:ext cx="180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058840" y="3524400"/>
            <a:ext cx="177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03480" y="1346040"/>
            <a:ext cx="90360" cy="907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25360" y="2678040"/>
            <a:ext cx="90720" cy="921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170000" y="1390680"/>
            <a:ext cx="1440" cy="133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170000" y="1390680"/>
            <a:ext cx="1866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081080" y="1746360"/>
            <a:ext cx="179280" cy="355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1432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0324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7200" y="2724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25600" y="1587600"/>
            <a:ext cx="266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125880" y="123192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303720" y="13716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886280" y="322884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4886280" y="1199880"/>
            <a:ext cx="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86280" y="1496880"/>
            <a:ext cx="251136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305120" y="320976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900680" y="109548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120360" y="319392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86280" y="309240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14960" y="2297160"/>
            <a:ext cx="0" cy="21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377120" y="310212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19560" y="202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8760" y="199872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886280" y="3711600"/>
            <a:ext cx="123660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138720" y="3716280"/>
            <a:ext cx="12369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94160" y="37767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4788000" y="2349360"/>
            <a:ext cx="0" cy="89064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4836600" y="2338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338720" y="260352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265720" y="110484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567560" y="2741760"/>
            <a:ext cx="117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911840" y="2363760"/>
            <a:ext cx="1187280" cy="8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073920" y="2276640"/>
            <a:ext cx="87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6240" y="376380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188200" y="30160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491080" y="93492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7c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656400" y="1978200"/>
            <a:ext cx="12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2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146480" y="4786200"/>
            <a:ext cx="4695840" cy="150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unkcie pracy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52800" y="1955880"/>
            <a:ext cx="0" cy="2840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2671920" y="14842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748240" y="1749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2665440" y="2341080"/>
            <a:ext cx="0" cy="1089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58680" y="2668680"/>
            <a:ext cx="52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185760" y="3179880"/>
            <a:ext cx="3709800" cy="15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307800" y="965160"/>
          <a:ext cx="5616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65160"/>
                    <a:ext cx="5616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0" name=""/>
          <p:cNvSpPr/>
          <p:nvPr/>
        </p:nvSpPr>
        <p:spPr>
          <a:xfrm>
            <a:off x="4031640" y="3419640"/>
            <a:ext cx="4862520" cy="1008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oretyczna, nie do uzysk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sprawność jest znacznie mniej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% - 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41640" y="5856120"/>
            <a:ext cx="8081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 mocy wyjściowej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50W moc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tranzystora musi być większa od 3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eśli sprawność wynosi ok. 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056600" y="1541520"/>
            <a:ext cx="691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a= moc zasilania - moc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2973240" y="2325600"/>
                <a:ext cx="2414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4" name=""/>
          <p:cNvSpPr/>
          <p:nvPr/>
        </p:nvSpPr>
        <p:spPr>
          <a:xfrm>
            <a:off x="486720" y="3978360"/>
            <a:ext cx="8489520" cy="77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 strat jest największa przy braku wysterowania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080360" y="4017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rezystancyjnym wzmacniaczu mocy klasy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1329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909880" y="242244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1348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1353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200" y="2203560"/>
            <a:ext cx="984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’  =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489480" y="4343400"/>
            <a:ext cx="502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3489480" y="1398600"/>
            <a:ext cx="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25840" y="2227320"/>
            <a:ext cx="4640400" cy="21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062200" y="4348080"/>
            <a:ext cx="63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6600" y="130644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012720" y="4357800"/>
            <a:ext cx="101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=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489480" y="42069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967360" y="330048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156520" y="43290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946840" y="300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032640" y="305100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89480" y="4826160"/>
            <a:ext cx="24476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04080" y="4830840"/>
            <a:ext cx="21272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56000" y="48783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3390840" y="3389040"/>
            <a:ext cx="0" cy="96516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3490920" y="33544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941560" y="371808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75040" y="1768320"/>
            <a:ext cx="3662640" cy="2054520"/>
          </a:xfrm>
          <a:custGeom>
            <a:avLst/>
            <a:gdLst/>
            <a:ahLst/>
            <a:rect l="l" t="t" r="r" b="b"/>
            <a:pathLst>
              <a:path w="2307" h="1294">
                <a:moveTo>
                  <a:pt x="0" y="0"/>
                </a:moveTo>
                <a:cubicBezTo>
                  <a:pt x="23" y="64"/>
                  <a:pt x="66" y="267"/>
                  <a:pt x="137" y="392"/>
                </a:cubicBezTo>
                <a:cubicBezTo>
                  <a:pt x="208" y="517"/>
                  <a:pt x="332" y="654"/>
                  <a:pt x="429" y="748"/>
                </a:cubicBezTo>
                <a:cubicBezTo>
                  <a:pt x="526" y="842"/>
                  <a:pt x="601" y="899"/>
                  <a:pt x="717" y="959"/>
                </a:cubicBezTo>
                <a:cubicBezTo>
                  <a:pt x="833" y="1019"/>
                  <a:pt x="961" y="1064"/>
                  <a:pt x="1123" y="1107"/>
                </a:cubicBezTo>
                <a:cubicBezTo>
                  <a:pt x="1285" y="1150"/>
                  <a:pt x="1494" y="1185"/>
                  <a:pt x="1691" y="1216"/>
                </a:cubicBezTo>
                <a:cubicBezTo>
                  <a:pt x="1888" y="1247"/>
                  <a:pt x="2179" y="1278"/>
                  <a:pt x="2307" y="12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356520" y="311292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514680" y="3379680"/>
            <a:ext cx="2413080" cy="95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51520" y="3292560"/>
            <a:ext cx="87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804000" y="492768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386560" y="390672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1066680" y="487692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4" name=""/>
          <p:cNvSpPr/>
          <p:nvPr/>
        </p:nvSpPr>
        <p:spPr>
          <a:xfrm>
            <a:off x="706320" y="5504040"/>
            <a:ext cx="7429680" cy="117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1386000" y="5208480"/>
            <a:ext cx="5603760" cy="519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6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1400" y="1041480"/>
            <a:ext cx="883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schematy ideowe przeciwsobnych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formatorowego                    i            z    tranzystorami komplementar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eztransformator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334160" y="5122800"/>
            <a:ext cx="703944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720" y="2757600"/>
            <a:ext cx="8490240" cy="1942200"/>
            <a:chOff x="18720" y="2757600"/>
            <a:chExt cx="8490240" cy="1942200"/>
          </a:xfrm>
        </p:grpSpPr>
        <p:sp>
          <p:nvSpPr>
            <p:cNvPr id="1403" name=""/>
            <p:cNvSpPr/>
            <p:nvPr/>
          </p:nvSpPr>
          <p:spPr>
            <a:xfrm>
              <a:off x="6670800" y="36831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165000" y="28288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03960" y="3656160"/>
              <a:ext cx="25740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51680" y="369900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59560" y="36990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283880" y="3392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91320" y="3475080"/>
              <a:ext cx="144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56520" y="3029040"/>
              <a:ext cx="466560" cy="409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356520" y="323388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249960" y="323388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41920" y="323388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541920" y="31212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6541920" y="309060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539040" y="329076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691320" y="299088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91320" y="33735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591240" y="335592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9400" y="330372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94560" y="2819520"/>
              <a:ext cx="127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45000" y="3668760"/>
              <a:ext cx="61920" cy="57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973760" y="39988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6691320" y="2819160"/>
              <a:ext cx="144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5432040" y="3819600"/>
              <a:ext cx="81360" cy="279360"/>
              <a:chOff x="5432040" y="3819600"/>
              <a:chExt cx="81360" cy="279360"/>
            </a:xfrm>
          </p:grpSpPr>
          <p:grpSp>
            <p:nvGrpSpPr>
              <p:cNvPr id="1426" name=""/>
              <p:cNvGrpSpPr/>
              <p:nvPr/>
            </p:nvGrpSpPr>
            <p:grpSpPr>
              <a:xfrm>
                <a:off x="5432040" y="3819600"/>
                <a:ext cx="81360" cy="104760"/>
                <a:chOff x="5432040" y="3819600"/>
                <a:chExt cx="81360" cy="104760"/>
              </a:xfrm>
            </p:grpSpPr>
            <p:sp>
              <p:nvSpPr>
                <p:cNvPr id="1427" name=""/>
                <p:cNvSpPr/>
                <p:nvPr/>
              </p:nvSpPr>
              <p:spPr>
                <a:xfrm flipH="1">
                  <a:off x="5432040" y="3819600"/>
                  <a:ext cx="414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473800" y="3819600"/>
                  <a:ext cx="396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9" name=""/>
              <p:cNvSpPr/>
              <p:nvPr/>
            </p:nvSpPr>
            <p:spPr>
              <a:xfrm>
                <a:off x="5473800" y="382104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0" name=""/>
            <p:cNvSpPr/>
            <p:nvPr/>
          </p:nvSpPr>
          <p:spPr>
            <a:xfrm>
              <a:off x="6356520" y="3963960"/>
              <a:ext cx="466560" cy="4096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356520" y="416880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249960" y="416880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6541920" y="4054320"/>
              <a:ext cx="18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541920" y="41670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41920" y="422928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539040" y="402732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91320" y="43117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691320" y="39081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6585120" y="407628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589800" y="401796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00680" y="4583160"/>
              <a:ext cx="12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91320" y="4398840"/>
              <a:ext cx="144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691320" y="38419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686640" y="3699000"/>
              <a:ext cx="5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18480" y="308448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6932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204400" y="3137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793116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970760" y="31590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193440" y="4400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823160" y="400860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97400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209440" y="40654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793584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975440" y="40878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7974000" y="3371400"/>
              <a:ext cx="1440" cy="6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7975440" y="4301640"/>
              <a:ext cx="180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72560" y="2817720"/>
              <a:ext cx="1440" cy="2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48480" y="3699000"/>
              <a:ext cx="42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53480" y="36799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6027840" y="3233880"/>
              <a:ext cx="24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27840" y="3235320"/>
              <a:ext cx="144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27840" y="4168800"/>
              <a:ext cx="28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503680" y="3697200"/>
              <a:ext cx="52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04080" y="367812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5400720" y="4387680"/>
              <a:ext cx="144360" cy="198720"/>
              <a:chOff x="5400720" y="4387680"/>
              <a:chExt cx="144360" cy="19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5443560" y="438768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473800" y="4448160"/>
                <a:ext cx="144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400720" y="4581360"/>
                <a:ext cx="144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5473800" y="403560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408880" y="37004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40840" y="384012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969320" y="3700440"/>
              <a:ext cx="44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7002360" y="3908520"/>
              <a:ext cx="7668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153920" y="39513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4686480" y="3463560"/>
              <a:ext cx="0" cy="4827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80560" y="300024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18720" y="2757600"/>
              <a:ext cx="4524840" cy="1942200"/>
              <a:chOff x="18720" y="2757600"/>
              <a:chExt cx="4524840" cy="1942200"/>
            </a:xfrm>
          </p:grpSpPr>
          <p:sp>
            <p:nvSpPr>
              <p:cNvPr id="1479" name=""/>
              <p:cNvSpPr/>
              <p:nvPr/>
            </p:nvSpPr>
            <p:spPr>
              <a:xfrm>
                <a:off x="913680" y="4486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35000" y="365760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9960" y="2803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468520" y="3517920"/>
                <a:ext cx="29520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481560" y="34131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481560" y="39513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986280" y="338436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989520" y="392256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457880" y="3565440"/>
                <a:ext cx="856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048200" y="3413160"/>
                <a:ext cx="45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500720" y="3413160"/>
                <a:ext cx="144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51440" y="3952800"/>
                <a:ext cx="447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498920" y="3821040"/>
                <a:ext cx="18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46400" y="3413160"/>
                <a:ext cx="454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142880" y="35956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11240" y="2814480"/>
                <a:ext cx="79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'=n  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67000" y="27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955880" y="3449520"/>
                <a:ext cx="1440" cy="4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620720" y="300348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620720" y="3208320"/>
                <a:ext cx="18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1514520" y="3208320"/>
                <a:ext cx="1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806480" y="320832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806480" y="30956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1806480" y="306504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03240" y="3265560"/>
                <a:ext cx="1526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1955880" y="296532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955880" y="33480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852560" y="3325680"/>
                <a:ext cx="82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884240" y="327024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1023840" y="3208320"/>
                <a:ext cx="542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655200" y="3674880"/>
                <a:ext cx="1295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955880" y="2793960"/>
                <a:ext cx="1276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63720" y="318132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76040" y="3359160"/>
                <a:ext cx="38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 flipV="1">
                <a:off x="2642760" y="3637080"/>
                <a:ext cx="5076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440440" y="3246480"/>
                <a:ext cx="29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E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1955880" y="2793960"/>
                <a:ext cx="1440" cy="18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227400" y="279540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"/>
              <p:cNvGrpSpPr/>
              <p:nvPr/>
            </p:nvGrpSpPr>
            <p:grpSpPr>
              <a:xfrm>
                <a:off x="952560" y="3290760"/>
                <a:ext cx="80640" cy="279360"/>
                <a:chOff x="952560" y="3290760"/>
                <a:chExt cx="80640" cy="279360"/>
              </a:xfrm>
            </p:grpSpPr>
            <p:grpSp>
              <p:nvGrpSpPr>
                <p:cNvPr id="1518" name=""/>
                <p:cNvGrpSpPr/>
                <p:nvPr/>
              </p:nvGrpSpPr>
              <p:grpSpPr>
                <a:xfrm>
                  <a:off x="952560" y="3290760"/>
                  <a:ext cx="80640" cy="104760"/>
                  <a:chOff x="952560" y="3290760"/>
                  <a:chExt cx="80640" cy="104760"/>
                </a:xfrm>
              </p:grpSpPr>
              <p:sp>
                <p:nvSpPr>
                  <p:cNvPr id="1519" name=""/>
                  <p:cNvSpPr/>
                  <p:nvPr/>
                </p:nvSpPr>
                <p:spPr>
                  <a:xfrm flipH="1">
                    <a:off x="952560" y="329076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993600" y="329076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1" name=""/>
                <p:cNvSpPr/>
                <p:nvPr/>
              </p:nvSpPr>
              <p:spPr>
                <a:xfrm>
                  <a:off x="993600" y="329220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2" name=""/>
              <p:cNvSpPr/>
              <p:nvPr/>
            </p:nvSpPr>
            <p:spPr>
              <a:xfrm>
                <a:off x="1620720" y="393840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620720" y="4143240"/>
                <a:ext cx="185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1514520" y="4143240"/>
                <a:ext cx="1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1806480" y="402876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1806480" y="41414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806480" y="420372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803240" y="4002120"/>
                <a:ext cx="1526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955880" y="428616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955880" y="38826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1838160" y="4021200"/>
                <a:ext cx="82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1874880" y="402120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1023840" y="4143240"/>
                <a:ext cx="542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955880" y="4557600"/>
                <a:ext cx="1276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963720" y="411300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071360" y="3851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2642760" y="3674880"/>
                <a:ext cx="507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55880" y="4373640"/>
                <a:ext cx="1440" cy="18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3227400" y="367488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0" name=""/>
              <p:cNvGrpSpPr/>
              <p:nvPr/>
            </p:nvGrpSpPr>
            <p:grpSpPr>
              <a:xfrm>
                <a:off x="952560" y="3781440"/>
                <a:ext cx="80640" cy="279360"/>
                <a:chOff x="952560" y="3781440"/>
                <a:chExt cx="80640" cy="279360"/>
              </a:xfrm>
            </p:grpSpPr>
            <p:grpSp>
              <p:nvGrpSpPr>
                <p:cNvPr id="1541" name=""/>
                <p:cNvGrpSpPr/>
                <p:nvPr/>
              </p:nvGrpSpPr>
              <p:grpSpPr>
                <a:xfrm>
                  <a:off x="952560" y="3781440"/>
                  <a:ext cx="80640" cy="104760"/>
                  <a:chOff x="952560" y="3781440"/>
                  <a:chExt cx="80640" cy="1047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 flipH="1">
                    <a:off x="952560" y="378144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993600" y="378144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4" name=""/>
                <p:cNvSpPr/>
                <p:nvPr/>
              </p:nvSpPr>
              <p:spPr>
                <a:xfrm>
                  <a:off x="993600" y="378288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5" name=""/>
              <p:cNvSpPr/>
              <p:nvPr/>
            </p:nvSpPr>
            <p:spPr>
              <a:xfrm>
                <a:off x="1955880" y="381636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1951200" y="3673440"/>
                <a:ext cx="51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760840" y="3673440"/>
                <a:ext cx="50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2541240" y="367488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3225960" y="3362400"/>
                <a:ext cx="291960" cy="628560"/>
                <a:chOff x="3225960" y="3362400"/>
                <a:chExt cx="291960" cy="62856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3225960" y="341316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3422520" y="341316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V="1">
                  <a:off x="3368520" y="336240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"/>
              <p:cNvSpPr/>
              <p:nvPr/>
            </p:nvSpPr>
            <p:spPr>
              <a:xfrm>
                <a:off x="3270240" y="31240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279600" y="40528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5" name=""/>
              <p:cNvGrpSpPr/>
              <p:nvPr/>
            </p:nvGrpSpPr>
            <p:grpSpPr>
              <a:xfrm>
                <a:off x="361800" y="3341520"/>
                <a:ext cx="291960" cy="628560"/>
                <a:chOff x="361800" y="3341520"/>
                <a:chExt cx="291960" cy="62856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361800" y="339228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58360" y="339228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V="1">
                  <a:off x="504360" y="334152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9" name=""/>
              <p:cNvSpPr/>
              <p:nvPr/>
            </p:nvSpPr>
            <p:spPr>
              <a:xfrm>
                <a:off x="606600" y="319068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598320" y="3948120"/>
                <a:ext cx="35892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966960" y="364788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46080" y="319716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flipV="1">
                <a:off x="25200" y="391932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174600" y="3290400"/>
                <a:ext cx="0" cy="73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8720" y="2776320"/>
                <a:ext cx="509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 tranzystorami komplementarny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zasada działan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104240" y="118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553080" y="157320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6487920" y="1573200"/>
            <a:ext cx="132120" cy="133200"/>
            <a:chOff x="6487920" y="1573200"/>
            <a:chExt cx="132120" cy="133200"/>
          </a:xfrm>
        </p:grpSpPr>
        <p:sp>
          <p:nvSpPr>
            <p:cNvPr id="1570" name=""/>
            <p:cNvSpPr/>
            <p:nvPr/>
          </p:nvSpPr>
          <p:spPr>
            <a:xfrm>
              <a:off x="6553440" y="1573200"/>
              <a:ext cx="66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6487920" y="1573200"/>
              <a:ext cx="651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8537040" y="2776680"/>
            <a:ext cx="18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8724600" y="28051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 flipV="1">
            <a:off x="85615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8561520" y="327816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189400" y="3278160"/>
            <a:ext cx="350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407200" y="32637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695640" y="145908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597360" y="3297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248080" y="3263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632360" y="32688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977080" y="498636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124760" y="498960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6993000" y="5055840"/>
            <a:ext cx="131760" cy="132120"/>
            <a:chOff x="6993000" y="5055840"/>
            <a:chExt cx="131760" cy="132120"/>
          </a:xfrm>
        </p:grpSpPr>
        <p:sp>
          <p:nvSpPr>
            <p:cNvPr id="1585" name=""/>
            <p:cNvSpPr/>
            <p:nvPr/>
          </p:nvSpPr>
          <p:spPr>
            <a:xfrm flipH="1">
              <a:off x="6993000" y="512280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6993000" y="505584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 flipV="1">
            <a:off x="5978520" y="505584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978520" y="512280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288120" y="515448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86120" y="51832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667200" y="51292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270160" y="273204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901800" y="1366920"/>
            <a:ext cx="1440" cy="19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901800" y="327816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01800" y="136692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836280" y="136692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3673080" y="3279600"/>
            <a:ext cx="1335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 flipV="1">
            <a:off x="3673080" y="3211200"/>
            <a:ext cx="133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23920" y="2019240"/>
            <a:ext cx="26640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20600" y="2585880"/>
            <a:ext cx="266400" cy="13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922320" y="31212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1243080" y="1952280"/>
            <a:ext cx="72684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1157400" y="251892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022400" y="305712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906480" y="1827360"/>
            <a:ext cx="263520" cy="145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021680" y="1265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882240" y="31212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168640" y="1162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3611520" y="327816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704880" y="3279600"/>
            <a:ext cx="290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3544560" y="506088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3611520" y="506088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7063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06320" y="328140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122640" y="44071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225960" y="38386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325680" y="33037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2543040" y="4540320"/>
            <a:ext cx="727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1836720" y="3973680"/>
            <a:ext cx="151776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981000" y="3435480"/>
            <a:ext cx="2508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3343320" y="327960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751920" y="497664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6160" y="339264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907920" y="1768320"/>
            <a:ext cx="1314720" cy="148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131840" y="202392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222640" y="32608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322800" y="44974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149480" y="2041560"/>
            <a:ext cx="71150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48000" y="4516560"/>
            <a:ext cx="4886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553080" y="3071880"/>
            <a:ext cx="1800" cy="15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315480" y="2041560"/>
            <a:ext cx="4788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 flipV="1">
            <a:off x="677664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165640" y="4070160"/>
            <a:ext cx="4824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2691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2691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562932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462440" y="4070160"/>
            <a:ext cx="48276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792648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313320" y="204156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597996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461360" y="407052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446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4467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28000" y="3278160"/>
            <a:ext cx="350640" cy="109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710480" y="325440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24760" y="3276720"/>
            <a:ext cx="1440" cy="18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977080" y="3276720"/>
            <a:ext cx="1440" cy="18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77080" y="5121360"/>
            <a:ext cx="115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95720" y="157320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233440" y="329076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801800" y="1528920"/>
            <a:ext cx="637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825560" y="4782960"/>
            <a:ext cx="637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1760" y="3241800"/>
            <a:ext cx="74880" cy="74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59920" y="4162320"/>
            <a:ext cx="2547360" cy="337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czynkowy punkt pracy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495440" y="3352680"/>
            <a:ext cx="681120" cy="73044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z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384120" y="1236600"/>
          <a:ext cx="8386920" cy="379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36600"/>
                    <a:ext cx="838692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365480" y="5504040"/>
            <a:ext cx="6553800" cy="99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6" name=""/>
          <p:cNvGraphicFramePr/>
          <p:nvPr/>
        </p:nvGraphicFramePr>
        <p:xfrm>
          <a:off x="668160" y="1509840"/>
          <a:ext cx="6531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09840"/>
                    <a:ext cx="6531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/>
          <p:nvPr/>
        </p:nvSpPr>
        <p:spPr>
          <a:xfrm>
            <a:off x="1319040" y="1398600"/>
            <a:ext cx="1800" cy="465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192320" y="5927760"/>
            <a:ext cx="654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 flipV="1">
            <a:off x="7610040" y="580248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7610040" y="5927760"/>
            <a:ext cx="12564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1192320" y="1398600"/>
            <a:ext cx="12672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319040" y="139860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319040" y="1774800"/>
            <a:ext cx="45291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848200" y="1774800"/>
            <a:ext cx="1800" cy="415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1318680" y="1774800"/>
            <a:ext cx="4529160" cy="41529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1319040" y="2404800"/>
            <a:ext cx="4529160" cy="35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470560" y="1901880"/>
            <a:ext cx="1440" cy="402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19040" y="5029200"/>
            <a:ext cx="4529160" cy="898560"/>
          </a:xfrm>
          <a:custGeom>
            <a:avLst/>
            <a:gdLst/>
            <a:ahLst/>
            <a:rect l="l" t="t" r="r" b="b"/>
            <a:pathLst>
              <a:path w="2853" h="566">
                <a:moveTo>
                  <a:pt x="0" y="566"/>
                </a:moveTo>
                <a:lnTo>
                  <a:pt x="396" y="249"/>
                </a:lnTo>
                <a:lnTo>
                  <a:pt x="621" y="144"/>
                </a:lnTo>
                <a:lnTo>
                  <a:pt x="792" y="91"/>
                </a:lnTo>
                <a:lnTo>
                  <a:pt x="1089" y="36"/>
                </a:lnTo>
                <a:lnTo>
                  <a:pt x="1347" y="12"/>
                </a:lnTo>
                <a:lnTo>
                  <a:pt x="1813" y="0"/>
                </a:lnTo>
                <a:lnTo>
                  <a:pt x="1981" y="12"/>
                </a:lnTo>
                <a:lnTo>
                  <a:pt x="2341" y="44"/>
                </a:lnTo>
                <a:lnTo>
                  <a:pt x="2613" y="96"/>
                </a:lnTo>
                <a:lnTo>
                  <a:pt x="2741" y="144"/>
                </a:lnTo>
                <a:lnTo>
                  <a:pt x="2853" y="18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319040" y="3460680"/>
            <a:ext cx="4542120" cy="2467080"/>
          </a:xfrm>
          <a:custGeom>
            <a:avLst/>
            <a:gdLst/>
            <a:ahLst/>
            <a:rect l="l" t="t" r="r" b="b"/>
            <a:pathLst>
              <a:path w="2861" h="1554">
                <a:moveTo>
                  <a:pt x="0" y="1554"/>
                </a:moveTo>
                <a:lnTo>
                  <a:pt x="634" y="1475"/>
                </a:lnTo>
                <a:lnTo>
                  <a:pt x="1197" y="1348"/>
                </a:lnTo>
                <a:lnTo>
                  <a:pt x="1577" y="1240"/>
                </a:lnTo>
                <a:lnTo>
                  <a:pt x="1585" y="1237"/>
                </a:lnTo>
                <a:lnTo>
                  <a:pt x="1805" y="1124"/>
                </a:lnTo>
                <a:lnTo>
                  <a:pt x="1973" y="1020"/>
                </a:lnTo>
                <a:lnTo>
                  <a:pt x="2205" y="832"/>
                </a:lnTo>
                <a:lnTo>
                  <a:pt x="2509" y="520"/>
                </a:lnTo>
                <a:lnTo>
                  <a:pt x="2697" y="276"/>
                </a:lnTo>
                <a:lnTo>
                  <a:pt x="2861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64000" y="4795920"/>
            <a:ext cx="1800" cy="113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1319040" y="5048280"/>
            <a:ext cx="314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904000" y="5954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355880" y="608004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/U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479960" y="18352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487520" y="1430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626120" y="4570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696680" y="47689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ma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289400" y="59259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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18480" y="1647720"/>
            <a:ext cx="106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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765600" y="3311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142520" y="3814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2555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007240" y="41403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030000" y="50734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00920" y="527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898160" y="39416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418720" y="592596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513400" y="615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charakterystyki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2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1693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1706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4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8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1719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1723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9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1730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3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1737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1740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6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8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2044440" y="2778120"/>
            <a:ext cx="393372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1762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1765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1768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0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1776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1781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1784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1787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1791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1806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1809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1821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zykład symulacj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4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1825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783240" y="211932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900600" y="462600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4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5270040" y="185580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5187600" y="402588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1281960" y="1460520"/>
            <a:ext cx="5110560" cy="3777480"/>
            <a:chOff x="1281960" y="1460520"/>
            <a:chExt cx="5110560" cy="3777480"/>
          </a:xfrm>
        </p:grpSpPr>
        <p:sp>
          <p:nvSpPr>
            <p:cNvPr id="1843" name=""/>
            <p:cNvSpPr/>
            <p:nvPr/>
          </p:nvSpPr>
          <p:spPr>
            <a:xfrm>
              <a:off x="3130560" y="2700360"/>
              <a:ext cx="646200" cy="1338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3532320" y="3268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5" name=""/>
            <p:cNvGrpSpPr/>
            <p:nvPr/>
          </p:nvGrpSpPr>
          <p:grpSpPr>
            <a:xfrm>
              <a:off x="3790800" y="2262240"/>
              <a:ext cx="622080" cy="549000"/>
              <a:chOff x="3790800" y="2262240"/>
              <a:chExt cx="622080" cy="549000"/>
            </a:xfrm>
          </p:grpSpPr>
          <p:sp>
            <p:nvSpPr>
              <p:cNvPr id="1846" name=""/>
              <p:cNvSpPr/>
              <p:nvPr/>
            </p:nvSpPr>
            <p:spPr>
              <a:xfrm>
                <a:off x="3790800" y="226224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4023360" y="239940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4023360" y="2285640"/>
                <a:ext cx="201600" cy="18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023360" y="2604240"/>
                <a:ext cx="208080" cy="18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790800" y="2536200"/>
                <a:ext cx="2325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V="1">
                <a:off x="4180320" y="2672640"/>
                <a:ext cx="2160" cy="68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4102920" y="2741040"/>
                <a:ext cx="77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3" name=""/>
            <p:cNvSpPr/>
            <p:nvPr/>
          </p:nvSpPr>
          <p:spPr>
            <a:xfrm flipV="1">
              <a:off x="4257720" y="2080800"/>
              <a:ext cx="20628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57720" y="281160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495520" y="2995560"/>
              <a:ext cx="830160" cy="73044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0"/>
                  </a:moveTo>
                  <a:lnTo>
                    <a:pt x="0" y="406"/>
                  </a:lnTo>
                  <a:lnTo>
                    <a:pt x="407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01000" y="32893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Z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325680" y="3360600"/>
              <a:ext cx="206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32320" y="1531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532320" y="2538360"/>
              <a:ext cx="31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4464000" y="1531800"/>
              <a:ext cx="180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2909880" y="1531440"/>
              <a:ext cx="1440" cy="164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909880" y="1531800"/>
              <a:ext cx="290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2909880" y="3541680"/>
              <a:ext cx="144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3790800" y="3905280"/>
              <a:ext cx="622080" cy="549000"/>
              <a:chOff x="3790800" y="3905280"/>
              <a:chExt cx="622080" cy="549000"/>
            </a:xfrm>
          </p:grpSpPr>
          <p:sp>
            <p:nvSpPr>
              <p:cNvPr id="1865" name=""/>
              <p:cNvSpPr/>
              <p:nvPr/>
            </p:nvSpPr>
            <p:spPr>
              <a:xfrm>
                <a:off x="3790800" y="390528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023360" y="404388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023360" y="4249440"/>
                <a:ext cx="201600" cy="180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4023360" y="3928680"/>
                <a:ext cx="208080" cy="18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790800" y="4180680"/>
                <a:ext cx="2325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076280" y="3975480"/>
                <a:ext cx="2160" cy="68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4102920" y="4065480"/>
                <a:ext cx="77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3532320" y="4183200"/>
              <a:ext cx="51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4257720" y="372564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257720" y="4456080"/>
              <a:ext cx="2062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464000" y="299556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464000" y="3360600"/>
              <a:ext cx="12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09880" y="5097600"/>
              <a:ext cx="290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464000" y="4640400"/>
              <a:ext cx="1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0280" y="3268800"/>
              <a:ext cx="419400" cy="18252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1324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014560" y="3144960"/>
              <a:ext cx="104760" cy="9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41324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481560" y="331308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413240" y="331308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77684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93020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427560" y="1897200"/>
              <a:ext cx="207720" cy="36828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7560" y="4456080"/>
              <a:ext cx="207720" cy="36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81560" y="50497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481560" y="14875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481560" y="4135320"/>
              <a:ext cx="1029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481560" y="249084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708520" y="3268800"/>
              <a:ext cx="1800" cy="183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75928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75928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2290320" y="3633840"/>
              <a:ext cx="20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290680" y="3633840"/>
              <a:ext cx="1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185920" y="3909960"/>
              <a:ext cx="2080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9" name=""/>
            <p:cNvGrpSpPr/>
            <p:nvPr/>
          </p:nvGrpSpPr>
          <p:grpSpPr>
            <a:xfrm>
              <a:off x="3427560" y="2903400"/>
              <a:ext cx="207360" cy="185400"/>
              <a:chOff x="3427560" y="2903400"/>
              <a:chExt cx="207360" cy="185400"/>
            </a:xfrm>
          </p:grpSpPr>
          <p:sp>
            <p:nvSpPr>
              <p:cNvPr id="1900" name=""/>
              <p:cNvSpPr/>
              <p:nvPr/>
            </p:nvSpPr>
            <p:spPr>
              <a:xfrm>
                <a:off x="3427560" y="2903400"/>
                <a:ext cx="207360" cy="18396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427560" y="3087360"/>
                <a:ext cx="2073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3427560" y="3726000"/>
              <a:ext cx="207360" cy="185400"/>
              <a:chOff x="3427560" y="3726000"/>
              <a:chExt cx="207360" cy="185400"/>
            </a:xfrm>
          </p:grpSpPr>
          <p:sp>
            <p:nvSpPr>
              <p:cNvPr id="1903" name=""/>
              <p:cNvSpPr/>
              <p:nvPr/>
            </p:nvSpPr>
            <p:spPr>
              <a:xfrm>
                <a:off x="3427560" y="3726000"/>
                <a:ext cx="207360" cy="1836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427560" y="3909600"/>
                <a:ext cx="2073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3740040" y="271944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3634920" y="271944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740040" y="271944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843360" y="2922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275880" y="16272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998520" y="309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018120" y="14605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172560" y="51004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13360" y="4932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740040" y="354168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3635280" y="354168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740040" y="354168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84336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998520" y="37288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117600" y="2739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72760" y="290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27276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11760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722120" y="41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68760" y="4110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722120" y="263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568760" y="2467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740040" y="2009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40040" y="45673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470480" y="164700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468680" y="465048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81960" y="2865600"/>
              <a:ext cx="59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103480" y="32036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4700160" y="3143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863600" y="27273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48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1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54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6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4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82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0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24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397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0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43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16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89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30320" y="1062000"/>
            <a:ext cx="8674560" cy="4608720"/>
            <a:chOff x="130320" y="1062000"/>
            <a:chExt cx="8674560" cy="4608720"/>
          </a:xfrm>
        </p:grpSpPr>
        <p:sp>
          <p:nvSpPr>
            <p:cNvPr id="1938" name=""/>
            <p:cNvSpPr/>
            <p:nvPr/>
          </p:nvSpPr>
          <p:spPr>
            <a:xfrm>
              <a:off x="3349800" y="229536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327480" y="374508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68400" y="2036880"/>
              <a:ext cx="1517760" cy="195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1" name=""/>
            <p:cNvGraphicFramePr/>
            <p:nvPr/>
          </p:nvGraphicFramePr>
          <p:xfrm>
            <a:off x="1066680" y="1062000"/>
            <a:ext cx="434340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62000"/>
                      <a:ext cx="434340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3" name=""/>
            <p:cNvSpPr/>
            <p:nvPr/>
          </p:nvSpPr>
          <p:spPr>
            <a:xfrm>
              <a:off x="4317840" y="137808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317840" y="435780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5900760" y="19411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13360" y="4478400"/>
              <a:ext cx="27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900760" y="2157480"/>
              <a:ext cx="1968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00760" y="2157480"/>
              <a:ext cx="1725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9" name=""/>
                <p:cNvSpPr txBox="1"/>
                <p:nvPr/>
              </p:nvSpPr>
              <p:spPr>
                <a:xfrm>
                  <a:off x="6264360" y="4746600"/>
                  <a:ext cx="22874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0" name=""/>
            <p:cNvSpPr/>
            <p:nvPr/>
          </p:nvSpPr>
          <p:spPr>
            <a:xfrm>
              <a:off x="7832520" y="284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179840" y="28544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7769160" y="4452840"/>
              <a:ext cx="0" cy="2858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117640" y="394020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70240" y="17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373800" y="3570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80160" y="3971880"/>
              <a:ext cx="222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131640" y="1379520"/>
              <a:ext cx="36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050680" y="2133720"/>
              <a:ext cx="754200" cy="51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7867800" y="2511360"/>
              <a:ext cx="272880" cy="61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955960" y="2313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058560" y="222084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916360" y="275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553160" y="284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961560" y="228132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30320" y="2852640"/>
              <a:ext cx="1404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0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2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9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3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scalonych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2012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4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9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7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87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708360" y="1768320"/>
            <a:ext cx="735120" cy="1721160"/>
          </a:xfrm>
          <a:custGeom>
            <a:avLst/>
            <a:gdLst/>
            <a:ahLst/>
            <a:rect l="l" t="t" r="r" b="b"/>
            <a:pathLst>
              <a:path w="463" h="1084">
                <a:moveTo>
                  <a:pt x="87" y="8"/>
                </a:moveTo>
                <a:cubicBezTo>
                  <a:pt x="131" y="0"/>
                  <a:pt x="224" y="27"/>
                  <a:pt x="276" y="69"/>
                </a:cubicBezTo>
                <a:cubicBezTo>
                  <a:pt x="329" y="111"/>
                  <a:pt x="373" y="201"/>
                  <a:pt x="403" y="262"/>
                </a:cubicBezTo>
                <a:cubicBezTo>
                  <a:pt x="433" y="324"/>
                  <a:pt x="463" y="374"/>
                  <a:pt x="457" y="435"/>
                </a:cubicBezTo>
                <a:cubicBezTo>
                  <a:pt x="452" y="496"/>
                  <a:pt x="387" y="541"/>
                  <a:pt x="367" y="628"/>
                </a:cubicBezTo>
                <a:cubicBezTo>
                  <a:pt x="348" y="715"/>
                  <a:pt x="355" y="880"/>
                  <a:pt x="340" y="953"/>
                </a:cubicBezTo>
                <a:cubicBezTo>
                  <a:pt x="325" y="1026"/>
                  <a:pt x="312" y="1052"/>
                  <a:pt x="275" y="1068"/>
                </a:cubicBezTo>
                <a:cubicBezTo>
                  <a:pt x="238" y="1084"/>
                  <a:pt x="153" y="1084"/>
                  <a:pt x="119" y="1052"/>
                </a:cubicBezTo>
                <a:cubicBezTo>
                  <a:pt x="85" y="1020"/>
                  <a:pt x="78" y="938"/>
                  <a:pt x="70" y="872"/>
                </a:cubicBezTo>
                <a:cubicBezTo>
                  <a:pt x="62" y="806"/>
                  <a:pt x="75" y="731"/>
                  <a:pt x="72" y="655"/>
                </a:cubicBezTo>
                <a:cubicBezTo>
                  <a:pt x="69" y="579"/>
                  <a:pt x="60" y="478"/>
                  <a:pt x="49" y="413"/>
                </a:cubicBezTo>
                <a:cubicBezTo>
                  <a:pt x="38" y="348"/>
                  <a:pt x="12" y="311"/>
                  <a:pt x="6" y="262"/>
                </a:cubicBezTo>
                <a:cubicBezTo>
                  <a:pt x="0" y="213"/>
                  <a:pt x="3" y="159"/>
                  <a:pt x="15" y="121"/>
                </a:cubicBezTo>
                <a:cubicBezTo>
                  <a:pt x="27" y="82"/>
                  <a:pt x="44" y="16"/>
                  <a:pt x="87" y="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1" name=""/>
          <p:cNvGraphicFramePr/>
          <p:nvPr/>
        </p:nvGraphicFramePr>
        <p:xfrm>
          <a:off x="225360" y="1644480"/>
          <a:ext cx="864072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44480"/>
                    <a:ext cx="864072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-3960" y="5397480"/>
            <a:ext cx="3606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 zwrot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2, RF1, C3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975040" y="1173240"/>
            <a:ext cx="3670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bootstrap: R6, R7, 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246920" y="5397480"/>
            <a:ext cx="4871520" cy="11912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a wstęp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ąd spoczynkowy + zab. termicz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4, R8, R9, 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9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667560" y="29703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0" y="1338120"/>
            <a:ext cx="7421400" cy="48816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PA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0560" y="31971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775800" y="2332080"/>
            <a:ext cx="6225120" cy="2379600"/>
            <a:chOff x="775800" y="2332080"/>
            <a:chExt cx="6225120" cy="2379600"/>
          </a:xfrm>
        </p:grpSpPr>
        <p:sp>
          <p:nvSpPr>
            <p:cNvPr id="2123" name=""/>
            <p:cNvSpPr/>
            <p:nvPr/>
          </p:nvSpPr>
          <p:spPr>
            <a:xfrm>
              <a:off x="2646360" y="25462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5533920" y="25606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784680" y="31417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267080" y="3054240"/>
              <a:ext cx="679680" cy="18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321440" y="32716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382760" y="31543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2720" y="31669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27160" y="4118040"/>
              <a:ext cx="49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7000920" y="31654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6654600" y="31780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1407960" y="3365280"/>
              <a:ext cx="0" cy="1012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75800" y="36432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4156200" y="2855880"/>
              <a:ext cx="9396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353480" y="2332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7" name=""/>
            <p:cNvGrpSpPr/>
            <p:nvPr/>
          </p:nvGrpSpPr>
          <p:grpSpPr>
            <a:xfrm>
              <a:off x="2955960" y="3378240"/>
              <a:ext cx="385560" cy="284040"/>
              <a:chOff x="2955960" y="3378240"/>
              <a:chExt cx="385560" cy="284040"/>
            </a:xfrm>
          </p:grpSpPr>
          <p:sp>
            <p:nvSpPr>
              <p:cNvPr id="2138" name=""/>
              <p:cNvSpPr/>
              <p:nvPr/>
            </p:nvSpPr>
            <p:spPr>
              <a:xfrm>
                <a:off x="3128760" y="3378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955960" y="3636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0" name=""/>
            <p:cNvGrpSpPr/>
            <p:nvPr/>
          </p:nvGrpSpPr>
          <p:grpSpPr>
            <a:xfrm>
              <a:off x="6014880" y="3405240"/>
              <a:ext cx="385560" cy="284040"/>
              <a:chOff x="6014880" y="3405240"/>
              <a:chExt cx="385560" cy="284040"/>
            </a:xfrm>
          </p:grpSpPr>
          <p:sp>
            <p:nvSpPr>
              <p:cNvPr id="2141" name=""/>
              <p:cNvSpPr/>
              <p:nvPr/>
            </p:nvSpPr>
            <p:spPr>
              <a:xfrm>
                <a:off x="6187680" y="3405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014880" y="3663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1224000" y="4427640"/>
              <a:ext cx="385560" cy="284040"/>
              <a:chOff x="1224000" y="4427640"/>
              <a:chExt cx="385560" cy="284040"/>
            </a:xfrm>
          </p:grpSpPr>
          <p:sp>
            <p:nvSpPr>
              <p:cNvPr id="2144" name=""/>
              <p:cNvSpPr/>
              <p:nvPr/>
            </p:nvSpPr>
            <p:spPr>
              <a:xfrm>
                <a:off x="1396800" y="44276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224000" y="46861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6" name=""/>
            <p:cNvSpPr/>
            <p:nvPr/>
          </p:nvSpPr>
          <p:spPr>
            <a:xfrm>
              <a:off x="2891520" y="29113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050160" y="2952720"/>
              <a:ext cx="57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028960" y="3117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9" name=""/>
          <p:cNvSpPr/>
          <p:nvPr/>
        </p:nvSpPr>
        <p:spPr>
          <a:xfrm>
            <a:off x="2139840" y="5661000"/>
            <a:ext cx="5203800" cy="87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amplitud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terokrotny wzrost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3246480" y="4753080"/>
                <a:ext cx="1914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2" name=""/>
          <p:cNvGraphicFramePr/>
          <p:nvPr/>
        </p:nvGraphicFramePr>
        <p:xfrm>
          <a:off x="969840" y="1152360"/>
          <a:ext cx="730584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52360"/>
                    <a:ext cx="7305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1844640" y="4867200"/>
                <a:ext cx="1995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5" name=""/>
          <p:cNvSpPr/>
          <p:nvPr/>
        </p:nvSpPr>
        <p:spPr>
          <a:xfrm>
            <a:off x="1721160" y="5870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=R4,   R1=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7" name=""/>
          <p:cNvGraphicFramePr/>
          <p:nvPr/>
        </p:nvGraphicFramePr>
        <p:xfrm>
          <a:off x="561960" y="1116000"/>
          <a:ext cx="802152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16000"/>
                    <a:ext cx="802152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2136600" y="4473720"/>
                <a:ext cx="2448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3756240" y="5770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R1=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09300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2043000" y="5856120"/>
                <a:ext cx="1444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4" name=""/>
          <p:cNvGraphicFramePr/>
          <p:nvPr/>
        </p:nvGraphicFramePr>
        <p:xfrm>
          <a:off x="500040" y="1289160"/>
          <a:ext cx="80215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89160"/>
                    <a:ext cx="80215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2786040" y="4311720"/>
                <a:ext cx="2000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2786040" y="5506920"/>
                <a:ext cx="1231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mostkowy o mocy 1000W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układami PA05 (Ap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9" name=""/>
          <p:cNvGraphicFramePr/>
          <p:nvPr/>
        </p:nvGraphicFramePr>
        <p:xfrm>
          <a:off x="0" y="1378080"/>
          <a:ext cx="89931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8080"/>
                    <a:ext cx="89931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ększanie mocy we wzmacniaczach scal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225000" y="965160"/>
            <a:ext cx="8625240" cy="5743440"/>
            <a:chOff x="225000" y="965160"/>
            <a:chExt cx="8625240" cy="5743440"/>
          </a:xfrm>
        </p:grpSpPr>
        <p:sp>
          <p:nvSpPr>
            <p:cNvPr id="2173" name=""/>
            <p:cNvSpPr/>
            <p:nvPr/>
          </p:nvSpPr>
          <p:spPr>
            <a:xfrm>
              <a:off x="4862520" y="965160"/>
              <a:ext cx="3933720" cy="2806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35080" y="965160"/>
              <a:ext cx="4194000" cy="277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5" name=""/>
            <p:cNvGraphicFramePr/>
            <p:nvPr/>
          </p:nvGraphicFramePr>
          <p:xfrm>
            <a:off x="671400" y="1701720"/>
            <a:ext cx="3294000" cy="199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1400" y="1701720"/>
                      <a:ext cx="3294000" cy="19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7" name=""/>
            <p:cNvSpPr/>
            <p:nvPr/>
          </p:nvSpPr>
          <p:spPr>
            <a:xfrm>
              <a:off x="225000" y="965160"/>
              <a:ext cx="34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867200" y="3887640"/>
              <a:ext cx="3983040" cy="282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9" name=""/>
            <p:cNvGraphicFramePr/>
            <p:nvPr/>
          </p:nvGraphicFramePr>
          <p:xfrm>
            <a:off x="5473800" y="4433760"/>
            <a:ext cx="3003480" cy="225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73800" y="4433760"/>
                      <a:ext cx="3003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1" name=""/>
            <p:cNvSpPr/>
            <p:nvPr/>
          </p:nvSpPr>
          <p:spPr>
            <a:xfrm>
              <a:off x="4849560" y="3873600"/>
              <a:ext cx="358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 - zwiększenie napięć i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35080" y="3886200"/>
              <a:ext cx="4206600" cy="2820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3" name=""/>
            <p:cNvGraphicFramePr/>
            <p:nvPr/>
          </p:nvGraphicFramePr>
          <p:xfrm>
            <a:off x="322200" y="4440240"/>
            <a:ext cx="4097520" cy="22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200" y="4440240"/>
                      <a:ext cx="409752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5" name=""/>
            <p:cNvSpPr/>
            <p:nvPr/>
          </p:nvSpPr>
          <p:spPr>
            <a:xfrm>
              <a:off x="293760" y="4014720"/>
              <a:ext cx="390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3 -  zwiększenie napięć wyjściowych (U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m max 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&gt;V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6" name=""/>
            <p:cNvGraphicFramePr/>
            <p:nvPr/>
          </p:nvGraphicFramePr>
          <p:xfrm>
            <a:off x="5189400" y="1460520"/>
            <a:ext cx="316404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9400" y="1460520"/>
                      <a:ext cx="316404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8" name=""/>
            <p:cNvSpPr/>
            <p:nvPr/>
          </p:nvSpPr>
          <p:spPr>
            <a:xfrm>
              <a:off x="4822200" y="965160"/>
              <a:ext cx="337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u wyjściow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43200" y="1109520"/>
            <a:ext cx="6118200" cy="54864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2190" name=""/>
          <p:cNvSpPr/>
          <p:nvPr/>
        </p:nvSpPr>
        <p:spPr>
          <a:xfrm>
            <a:off x="932040" y="26676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500W(8ohm) o zwiększonym napięciu wyjści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układem OPA502 (45V, 10A) (układ 3 z poprzedniej stro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05760" y="4186080"/>
            <a:ext cx="779400" cy="2227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735360" y="14241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-720" y="936720"/>
            <a:ext cx="4589640" cy="3058200"/>
            <a:chOff x="-720" y="936720"/>
            <a:chExt cx="4589640" cy="3058200"/>
          </a:xfrm>
        </p:grpSpPr>
        <p:sp>
          <p:nvSpPr>
            <p:cNvPr id="777" name=""/>
            <p:cNvSpPr/>
            <p:nvPr/>
          </p:nvSpPr>
          <p:spPr>
            <a:xfrm>
              <a:off x="3688200" y="1161720"/>
              <a:ext cx="641880" cy="1158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84840" y="1166400"/>
              <a:ext cx="1494360" cy="9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2840" y="1175760"/>
              <a:ext cx="936720" cy="52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339440" y="2329560"/>
              <a:ext cx="1800" cy="131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40" y="1171080"/>
              <a:ext cx="4244040" cy="2481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401920" y="94572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2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314720" y="950760"/>
              <a:ext cx="4320" cy="268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58440" y="946080"/>
              <a:ext cx="216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62200" y="941400"/>
              <a:ext cx="1800" cy="270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941480" y="945720"/>
              <a:ext cx="432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71800" y="946080"/>
              <a:ext cx="216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93840" y="946080"/>
              <a:ext cx="648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06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8440" y="946080"/>
              <a:ext cx="4244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037320" y="946080"/>
              <a:ext cx="648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55640" y="94608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88200" y="946080"/>
              <a:ext cx="2160" cy="27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6280" y="946080"/>
              <a:ext cx="180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8456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06240" y="946080"/>
              <a:ext cx="648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41320" y="946080"/>
              <a:ext cx="39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23600" y="946080"/>
              <a:ext cx="10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4120" y="1234440"/>
              <a:ext cx="4222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8440" y="1290600"/>
              <a:ext cx="4213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8440" y="136800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600" y="1443600"/>
              <a:ext cx="4212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9600" y="154404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9600" y="165888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8440" y="181368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8440" y="2022840"/>
              <a:ext cx="4213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" y="2449440"/>
              <a:ext cx="423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4120" y="2508480"/>
              <a:ext cx="422244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8440" y="25833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94120" y="2660400"/>
              <a:ext cx="42444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280" y="2775600"/>
              <a:ext cx="42022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4280" y="2886120"/>
              <a:ext cx="4202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9600" y="3038400"/>
              <a:ext cx="420660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440" y="32637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440" y="2393640"/>
              <a:ext cx="423972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88200" y="2123280"/>
              <a:ext cx="655560" cy="128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79560" y="1703520"/>
              <a:ext cx="644040" cy="129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23160" y="1171080"/>
              <a:ext cx="356400" cy="19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41320" y="1703520"/>
              <a:ext cx="3960" cy="194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0840" y="1951920"/>
              <a:ext cx="1243800" cy="776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37800" y="19569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02880" y="2186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35360" y="22827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26080" y="21866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13800" y="2163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0040" y="2186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37800" y="242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54440" y="2522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45160" y="24260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79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4840" y="936720"/>
              <a:ext cx="6044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3400" y="93672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0" y="1152360"/>
              <a:ext cx="2386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80" y="1089360"/>
              <a:ext cx="360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0" y="10940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4680" y="2320560"/>
              <a:ext cx="192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5840" y="2320560"/>
              <a:ext cx="232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40" y="2325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440" y="3547440"/>
              <a:ext cx="2678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570840"/>
              <a:ext cx="42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-720" y="35755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914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860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640" y="3653280"/>
              <a:ext cx="232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64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14720" y="3282480"/>
              <a:ext cx="7768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60640" y="1340280"/>
              <a:ext cx="5335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60640" y="1359000"/>
              <a:ext cx="54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59200" y="13590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8440" y="946080"/>
              <a:ext cx="1800" cy="24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8520" y="946080"/>
              <a:ext cx="1800" cy="24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120" y="1166400"/>
              <a:ext cx="33847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79560" y="1368000"/>
              <a:ext cx="659520" cy="121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2880" y="1267560"/>
              <a:ext cx="486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04760" y="1654200"/>
              <a:ext cx="334080" cy="24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02880" y="1262520"/>
              <a:ext cx="5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02520" y="1262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24560" y="1680120"/>
              <a:ext cx="3211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24560" y="1680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4560" y="3303360"/>
              <a:ext cx="781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07960" y="330336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41920" y="3657600"/>
              <a:ext cx="356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1200" y="36622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622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8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8200" y="3666960"/>
              <a:ext cx="360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2748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" y="3657600"/>
              <a:ext cx="234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88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07680" y="3653280"/>
              <a:ext cx="234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0768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0160" y="3657600"/>
              <a:ext cx="227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260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0040" y="1060920"/>
              <a:ext cx="482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99240" y="1046520"/>
              <a:ext cx="549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97800" y="1046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798720" y="4322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365360" y="3573360"/>
            <a:ext cx="4605120" cy="3046320"/>
            <a:chOff x="4365360" y="3573360"/>
            <a:chExt cx="4605120" cy="3046320"/>
          </a:xfrm>
        </p:grpSpPr>
        <p:sp>
          <p:nvSpPr>
            <p:cNvPr id="879" name=""/>
            <p:cNvSpPr/>
            <p:nvPr/>
          </p:nvSpPr>
          <p:spPr>
            <a:xfrm>
              <a:off x="5928840" y="3797280"/>
              <a:ext cx="2146680" cy="13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23280" y="3811680"/>
              <a:ext cx="532080" cy="26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23040" y="3811680"/>
              <a:ext cx="1752480" cy="107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730000" y="5414400"/>
              <a:ext cx="2520" cy="852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4800" y="3807000"/>
              <a:ext cx="4268880" cy="2472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72680" y="358236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53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679360" y="3587400"/>
              <a:ext cx="4320" cy="267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24520" y="3582720"/>
              <a:ext cx="180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29360" y="3578040"/>
              <a:ext cx="1800" cy="269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307200" y="358236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112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63160" y="358272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47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4800" y="3582720"/>
              <a:ext cx="4268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411680" y="3582720"/>
              <a:ext cx="396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3072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6520" y="3582720"/>
              <a:ext cx="180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7604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65040" y="3582720"/>
              <a:ext cx="252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587800" y="3582720"/>
              <a:ext cx="432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21440" y="3582720"/>
              <a:ext cx="64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705880" y="3582720"/>
              <a:ext cx="82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50840" y="3870000"/>
              <a:ext cx="4248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4654800" y="3925800"/>
              <a:ext cx="423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4800" y="400284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77120" y="4078080"/>
              <a:ext cx="4237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65960" y="417816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65960" y="429264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54800" y="444672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4800" y="4655160"/>
              <a:ext cx="42397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4800" y="5079960"/>
              <a:ext cx="4259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50840" y="5139000"/>
              <a:ext cx="42483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4800" y="521352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650840" y="5289840"/>
              <a:ext cx="4268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70640" y="5404680"/>
              <a:ext cx="422856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70640" y="5514840"/>
              <a:ext cx="4228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65960" y="5666400"/>
              <a:ext cx="42332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54800" y="589104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4800" y="5024520"/>
              <a:ext cx="4264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0" y="5139000"/>
              <a:ext cx="551880" cy="1132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0" y="4895640"/>
              <a:ext cx="643320" cy="131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75280" y="3797280"/>
              <a:ext cx="11912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821440" y="4337280"/>
              <a:ext cx="6480" cy="194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9240" y="4594320"/>
              <a:ext cx="1302120" cy="801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65360" y="459432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71760" y="48229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04240" y="491904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95320" y="4822920"/>
              <a:ext cx="32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1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88520" y="4799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59800" y="4822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000" y="5061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80920" y="5157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74160" y="5061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35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41920" y="3573360"/>
              <a:ext cx="610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40120" y="357336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0200" y="3788280"/>
              <a:ext cx="2401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65720" y="3745800"/>
              <a:ext cx="360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65360" y="375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52480" y="4951800"/>
              <a:ext cx="1936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61480" y="4937400"/>
              <a:ext cx="235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60400" y="4942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74720" y="6173640"/>
              <a:ext cx="27144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85880" y="6183000"/>
              <a:ext cx="429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6188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59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4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35360" y="6279120"/>
              <a:ext cx="235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3536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8000" y="5909760"/>
              <a:ext cx="781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57960" y="4002840"/>
              <a:ext cx="4856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57960" y="3989160"/>
              <a:ext cx="5522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57600" y="3989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12640" y="3729960"/>
              <a:ext cx="5367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9440" y="3729960"/>
              <a:ext cx="55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8720" y="3729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54800" y="3582720"/>
              <a:ext cx="2520" cy="24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19360" y="3582720"/>
              <a:ext cx="1800" cy="24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62000" y="3801960"/>
              <a:ext cx="28454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66520" y="4451760"/>
              <a:ext cx="6476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75520" y="4098600"/>
              <a:ext cx="643320" cy="130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26400" y="4222800"/>
              <a:ext cx="48564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64640" y="4421520"/>
              <a:ext cx="33624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46560" y="4232160"/>
              <a:ext cx="545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45840" y="4232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73280" y="4461120"/>
              <a:ext cx="327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73280" y="4461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67840" y="5930280"/>
              <a:ext cx="7880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5680" y="593028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14120" y="6283080"/>
              <a:ext cx="35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3760" y="628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37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32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7960" y="6292800"/>
              <a:ext cx="362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60652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91560" y="6283080"/>
              <a:ext cx="236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9084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73040" y="6279120"/>
              <a:ext cx="233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7340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76240" y="6283080"/>
              <a:ext cx="228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27192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45160" y="20829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2" name=""/>
          <p:cNvGraphicFramePr/>
          <p:nvPr/>
        </p:nvGraphicFramePr>
        <p:xfrm>
          <a:off x="316080" y="1093680"/>
          <a:ext cx="8594640" cy="27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093680"/>
                    <a:ext cx="859464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symalne moce strat w układzie OPA501w zależności od czas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wania impulsu i temperatury obudow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88080" y="5030640"/>
            <a:ext cx="65268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pełnienia impulsów mocy &lt;=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992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998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1008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1012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1016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1025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1029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1033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2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46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050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063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066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071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074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328800" y="2517840"/>
            <a:ext cx="2353680" cy="1809000"/>
            <a:chOff x="6328800" y="2517840"/>
            <a:chExt cx="2353680" cy="1809000"/>
          </a:xfrm>
        </p:grpSpPr>
        <p:sp>
          <p:nvSpPr>
            <p:cNvPr id="1097" name=""/>
            <p:cNvSpPr/>
            <p:nvPr/>
          </p:nvSpPr>
          <p:spPr>
            <a:xfrm>
              <a:off x="6352200" y="2517840"/>
              <a:ext cx="19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j) - z³¹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51840" y="3038400"/>
              <a:ext cx="175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60920" y="3546360"/>
              <a:ext cx="207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8800" y="4067280"/>
              <a:ext cx="235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85800" y="5802480"/>
                <a:ext cx="5181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4" name=""/>
          <p:cNvSpPr/>
          <p:nvPr/>
        </p:nvSpPr>
        <p:spPr>
          <a:xfrm>
            <a:off x="1626840" y="5033880"/>
            <a:ext cx="2969280" cy="510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emperatura złą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mocy strat tranzysto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temperatury jego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20480" y="1601640"/>
            <a:ext cx="7516440" cy="4720680"/>
            <a:chOff x="420480" y="1601640"/>
            <a:chExt cx="7516440" cy="4720680"/>
          </a:xfrm>
        </p:grpSpPr>
        <p:sp>
          <p:nvSpPr>
            <p:cNvPr id="1107" name=""/>
            <p:cNvSpPr/>
            <p:nvPr/>
          </p:nvSpPr>
          <p:spPr>
            <a:xfrm flipV="1">
              <a:off x="1841400" y="20170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12800" y="5370480"/>
              <a:ext cx="63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63880" y="160164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71320" y="48020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41400" y="262728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51080" y="2627280"/>
              <a:ext cx="274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808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13240" y="5446440"/>
              <a:ext cx="1095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=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jma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118120" y="3693600"/>
              <a:ext cx="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841040" y="3693960"/>
              <a:ext cx="32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0480" y="3506760"/>
              <a:ext cx="127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max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(T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51080" y="26272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6200" y="2398680"/>
              <a:ext cx="81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 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499000" y="2199960"/>
                  <a:ext cx="129492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ΔP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j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1" name=""/>
            <p:cNvSpPr/>
            <p:nvPr/>
          </p:nvSpPr>
          <p:spPr>
            <a:xfrm flipH="1">
              <a:off x="4507920" y="2398680"/>
              <a:ext cx="91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5422680" y="2973240"/>
                  <a:ext cx="25142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max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c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04-22T08:47:24Z</dcterms:modified>
  <cp:revision>60</cp:revision>
  <dc:subject/>
  <dc:title>Wzmacniacze mocy</dc:title>
</cp:coreProperties>
</file>